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AD76-E315-42EC-A72B-1EB63F61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BD6C-6613-4371-AFE8-F87CB3A9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F4E6-DDE4-4727-A136-92FBC1B4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CCD4-35A8-4C3B-90CB-8F1F16FF4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3E0F-F957-4120-91FD-AB60A4CD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769D-6591-4D05-8FBF-A6929BE5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FF83-9933-4E8F-9124-73F3D31B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2BAB-CBFF-4456-9C71-11A21B13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A1F1-3CA1-4A24-B733-E66150C9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C460-1D46-4B1C-AFC3-A39B10E8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8FE6-15E6-498D-909E-2E618A34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ECDF-FF8B-401C-9667-D8E4F26F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EFC5-F282-4814-9F8A-24F166C6C5EB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ATUL DAC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800" y="3886200"/>
            <a:ext cx="7286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Istor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, Ioan Scurtu, Marian Curculescu, Constantin Dincă, Aurel Constantin Soare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1341360"/>
            <a:ext cx="4248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to-dacii locuiau în spaţiul carpato-dunărean, făcând parte din neamul tracilor […]. Cea mai veche informaţie scrisă o furnizează Herodot care în anul    514 î.H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i aminteşte pe geţi, caracterizându-i drept  ,,cei mari viteji şi mai drepţi dintre traci”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interni: ,,liantul” religios bazat pe cultul lui Zalmoxis; progresul economic reprezentat de înfloritoarea civilizaţie a fierului; organizarea în triburi şi uniuni tribale conduse de şefi militari, având reşedinţe fortificate (dava); formarea aristocraţiei militare şi sacerdotale (tarabostes, pileati) […], devenită clasă politică conducătoare (majoritatea populaţiei o formau oamenii de rând, comati)[…]; puternica personalitate a unor căpetenii politico-militare, devenite adevăraţi regi locali, între care cel mai important avea să fie Burebista.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externi. Aflaţi în plin proces evolutiv specific epocii fierului, geto-dacii au cunoscut diverse influenţe externe în planul civilizaţiei materiale şi spirituale din partea celţilor, perşilor, sciţilor, grecilor, romanil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tuaţi în atenţia lumii greceşti până spre secolul al II-lea î.Hr., geto-dacii au intrat apoi în zona de influenţă a Rome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plan politico-militar, creşterea ameninţării celte şi îndeosebi romane, a grăbit procesul de constituire a stăpânirii lui Burebista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2673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se recunoaşte client al Romei în anu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,,Cel dintâi şi cel mai mar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reg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 din  Tracia” a fo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ne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Pacea din anul 89 s-a încheiat înt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Domiț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Caesar şi 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Caes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7:24:23Z</dcterms:created>
  <dc:creator>c</dc:creator>
  <dc:description/>
  <dc:language>en-US</dc:language>
  <cp:lastModifiedBy>TIC6_col</cp:lastModifiedBy>
  <dcterms:modified xsi:type="dcterms:W3CDTF">2010-03-24T10:26:26Z</dcterms:modified>
  <cp:revision>20</cp:revision>
  <dc:subject/>
  <dc:title>Slide 1</dc:title>
</cp:coreProperties>
</file>